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3A28A-4977-4F0F-BA2C-CF8B6B6C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C9ED-55B0-4BCC-9754-D2A37BBC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5FB-4301-4F60-A645-071207F36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CD6B-4617-4CA3-9219-E7DFCF2C8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DA07-9D4C-4F43-9984-A9D4A433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738C-6742-476D-9F43-04016B8B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A5A1-8301-4D92-AF0C-4606BE75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CE45-C5E5-4752-B1F7-4FD914FB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614-8979-482B-A111-A63CAF68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F73-E17D-4BF0-A677-2CFCB019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4C1C-C535-4996-8C07-37D53B2A0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1ED6-DBE6-42C7-817F-D22E6DD66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6DACD-6E56-4DD8-B9DA-A3CCBBB73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uperclubsplu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ew eLearning Resourc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Etherpad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rcRect l="0" t="22916" r="0" b="3741"/>
          <a:stretch/>
        </p:blipFill>
        <p:spPr>
          <a:xfrm>
            <a:off x="0" y="1781280"/>
            <a:ext cx="9144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ossible tools for </a:t>
            </a:r>
            <a:br>
              <a:rPr sz="4000"/>
            </a:b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personalising learning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39640" y="1773360"/>
            <a:ext cx="8064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mphasis on personalising learning, sharing &amp; collaborating and organising information efficiently for quick delivery or retrieval highlights the value of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se web-based star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: Blogs and wi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favourites – boo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– social learning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ersonalise a sample start pa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new page on iGoogle or the Level 4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rt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ssage 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favourite activity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lendar with  2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RSS feed to something of interest 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ink to a blog or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>
            <a:hlinkClick r:id="rId1"/>
          </p:cNvPr>
          <p:cNvPicPr/>
          <p:nvPr/>
        </p:nvPicPr>
        <p:blipFill>
          <a:blip r:embed="rId2"/>
          <a:srcRect l="0" t="24361" r="0" b="3760"/>
          <a:stretch/>
        </p:blipFill>
        <p:spPr>
          <a:xfrm>
            <a:off x="468360" y="1197000"/>
            <a:ext cx="8675640" cy="38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rcRect l="0" t="24271" r="0" b="4124"/>
          <a:stretch/>
        </p:blipFill>
        <p:spPr>
          <a:xfrm>
            <a:off x="179280" y="1341360"/>
            <a:ext cx="8964720" cy="40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rcRect l="0" t="23945" r="0" b="8002"/>
          <a:stretch/>
        </p:blipFill>
        <p:spPr>
          <a:xfrm>
            <a:off x="179280" y="1557360"/>
            <a:ext cx="89647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rcRect l="0" t="24309" r="0" b="4313"/>
          <a:stretch/>
        </p:blipFill>
        <p:spPr>
          <a:xfrm>
            <a:off x="250920" y="1413000"/>
            <a:ext cx="8713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"/>
          <p:cNvPicPr/>
          <p:nvPr/>
        </p:nvPicPr>
        <p:blipFill>
          <a:blip r:embed="rId1"/>
          <a:srcRect l="0" t="24545" r="0" b="4762"/>
          <a:stretch/>
        </p:blipFill>
        <p:spPr>
          <a:xfrm>
            <a:off x="324000" y="1916280"/>
            <a:ext cx="864072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rcRect l="0" t="23100" r="0" b="4540"/>
          <a:stretch/>
        </p:blipFill>
        <p:spPr>
          <a:xfrm>
            <a:off x="395280" y="1989000"/>
            <a:ext cx="828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1:10:37Z</dcterms:created>
  <dc:creator>02167970</dc:creator>
  <dc:description/>
  <dc:language>en-US</dc:language>
  <cp:lastModifiedBy>02167970</cp:lastModifiedBy>
  <dcterms:modified xsi:type="dcterms:W3CDTF">2009-10-20T03:16:07Z</dcterms:modified>
  <cp:revision>8</cp:revision>
  <dc:subject/>
  <dc:title>New eLearning Resources</dc:title>
</cp:coreProperties>
</file>